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5327650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B3028-6926-4F17-B7B9-940B87CE2D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458928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6840" y="4515480"/>
            <a:ext cx="458928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449B2-1E13-4A33-8ABA-C24E818B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684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1872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572F8-748C-4444-A69F-C430BD5D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8440" y="201312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70400" y="201312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6840" y="451548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8440" y="451548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470400" y="451548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CE13D-3759-497A-9CBA-0ABD63C2E5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66840" y="2013120"/>
            <a:ext cx="458928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458928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66840" y="403200"/>
            <a:ext cx="458928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58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6684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6840" y="2013120"/>
            <a:ext cx="458928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A66E5-CBF1-4812-8ACC-54740E7E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71872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66840" y="4515480"/>
            <a:ext cx="458928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458928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6840" y="4515480"/>
            <a:ext cx="458928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6684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271872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918440" y="201312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70400" y="201312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66840" y="451548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1918440" y="451548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3470400" y="4515480"/>
            <a:ext cx="147744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458928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5F453-C44E-4C5D-BF4A-EB5B7577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7CDFF-1688-4BF2-8FD1-4418C716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9814D-9E4E-4FA5-967D-7972B460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6840" y="403200"/>
            <a:ext cx="458928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58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EB870-E10D-4141-B686-9B459DBA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684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013C7-6378-4460-B7D6-FF637BCE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18720" y="451548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5C2D2-E60D-4E81-A82E-3FF24773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684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18720" y="2013120"/>
            <a:ext cx="223956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6840" y="4515480"/>
            <a:ext cx="4589280" cy="228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7A427-20DF-4C6B-A87D-89FA44C9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6840" y="2013120"/>
            <a:ext cx="458928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6840" y="7007400"/>
            <a:ext cx="11937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AU" sz="6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AU" sz="6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765440" y="7007400"/>
            <a:ext cx="179676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762360" y="7007400"/>
            <a:ext cx="119376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AU" sz="600" spc="-1" strike="noStrike">
                <a:solidFill>
                  <a:srgbClr val="898989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9F6D33B0-DB58-475D-A1D5-168DEC8B13BC}" type="slidenum">
              <a:rPr b="0" lang="en-AU" sz="600" spc="-1" strike="noStrike">
                <a:solidFill>
                  <a:srgbClr val="898989"/>
                </a:solidFill>
                <a:latin typeface="Times New Roman"/>
                <a:ea typeface="Segoe U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327640" cy="754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6840" y="403200"/>
            <a:ext cx="458928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66840" y="2013120"/>
            <a:ext cx="458928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8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0000"/>
              </a:lnSpc>
              <a:spcBef>
                <a:spcPts val="5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438200" y="4025880"/>
            <a:ext cx="307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1400" spc="-1" strike="noStrike">
                <a:solidFill>
                  <a:srgbClr val="1db2ac"/>
                </a:solidFill>
                <a:latin typeface="Calibri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1438200" y="4857840"/>
            <a:ext cx="307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1400" spc="-1" strike="noStrike">
                <a:solidFill>
                  <a:srgbClr val="1db2ac"/>
                </a:solidFill>
                <a:latin typeface="Calibri"/>
              </a:rPr>
              <a:t>Cí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1438200" y="5691240"/>
            <a:ext cx="307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1400" spc="-1" strike="noStrike">
                <a:solidFill>
                  <a:srgbClr val="1db2ac"/>
                </a:solidFill>
                <a:latin typeface="Calibri"/>
              </a:rPr>
              <a:t>Időpo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1438200" y="6523200"/>
            <a:ext cx="307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hu-HU" sz="1400" spc="-1" strike="noStrike">
                <a:solidFill>
                  <a:srgbClr val="1db2ac"/>
                </a:solidFill>
                <a:latin typeface="Calibri"/>
              </a:rPr>
              <a:t>Telefonszá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20T02:45:02Z</dcterms:created>
  <dc:creator>Aaron Hill</dc:creator>
  <dc:description/>
  <dc:language>en-US</dc:language>
  <cp:lastModifiedBy/>
  <dcterms:modified xsi:type="dcterms:W3CDTF">2020-06-12T10:08:52Z</dcterms:modified>
  <cp:revision>6</cp:revision>
  <dc:subject/>
  <dc:title>PowerPoint Presentation</dc:title>
</cp:coreProperties>
</file>