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327650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7456-0E06-43D0-8357-6FD1B47E15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51548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38A95-41EE-4718-A200-BD2393DC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1872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18BB-1E53-4B25-A02F-2DDEE0AC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844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7040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844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7040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D578-7D59-41B4-845B-8E3A76CF62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6840" y="403200"/>
            <a:ext cx="45892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723BE-5494-45A5-8DE2-DACBE616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71872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6840" y="451548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71872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1844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7040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6684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191844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347040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428C8-4406-466C-B396-A5796F38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5A55-DF34-467A-BA19-D3E78EDE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5433-6DBB-40E3-AE18-28186A1F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403200"/>
            <a:ext cx="45892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4A0E-33EC-4A07-A286-C586978A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E5CD2-8CD3-491E-BA41-84FA5C5E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1872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88F57-F8D1-4F50-A2AE-7579EEAB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4B7EF-982F-4E2E-8DFE-2A60B2DE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6840" y="7007400"/>
            <a:ext cx="11937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AU" sz="6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6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65440" y="7007400"/>
            <a:ext cx="1796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62360" y="7007400"/>
            <a:ext cx="11937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AU" sz="6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588BBFB1-6558-4C08-A7B4-884F8755466D}" type="slidenum">
              <a:rPr b="0" lang="en-AU" sz="6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27640" cy="754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41240" y="4025880"/>
            <a:ext cx="383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1400" spc="-1" strike="noStrike">
                <a:solidFill>
                  <a:srgbClr val="1db2ac"/>
                </a:solidFill>
                <a:latin typeface="Calibri"/>
              </a:rPr>
              <a:t>Ide írd a köszönő szöveg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0T02:45:02Z</dcterms:created>
  <dc:creator>Aaron Hill</dc:creator>
  <dc:description/>
  <dc:language>en-US</dc:language>
  <cp:lastModifiedBy/>
  <dcterms:modified xsi:type="dcterms:W3CDTF">2020-06-12T10:15:45Z</dcterms:modified>
  <cp:revision>9</cp:revision>
  <dc:subject/>
  <dc:title>PowerPoint Presentation</dc:title>
</cp:coreProperties>
</file>